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021B-1C21-44CB-BFB0-8692054EB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3FF5-85DC-47CE-B52A-1F7E2035C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ACA7-7C31-48F3-BB6F-36F8CA891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D9B2-C693-4AB7-AC3D-3A7BD9A76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32ECF-E1A8-43A2-9340-FB827B969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792C7-F7A2-461C-880C-8FB879204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C801A-DFC4-432F-BF0E-5000F105B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DD84A-3EFD-4423-B009-2D9B23794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837D5-6A1A-4424-9372-975D33B16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D0297-75CC-4FCA-ADD9-36C8909F3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25FC7-430A-44E7-94F8-A43361B6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0F05-D73B-4327-B7E2-820785790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621B8-49CE-465F-A8F0-FD433390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B17E4-9097-41E5-90B2-98F64790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F7632-5526-4AAB-8DEE-669FCBBD2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344E8-2A1F-4DBC-B9CD-4313BE749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2C2AE-EE02-4673-9923-2DEF6750F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17AC5-7400-41A5-91A5-6C9A78366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CE8FE-FB8D-4DDE-A8B4-39D5D3DCD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90286-BDC0-465C-9133-E7E988509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B5DB5-E26F-497F-9019-5FF9897AD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88EBC-4E5F-40AE-9F62-F24D9ADF6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D237-F1D1-418D-B9AF-387F6A02C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21FC8-3384-4E2C-BCF2-173DE66A7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B7E42-EF5C-4798-BB83-5C8A2BF0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31D4D-F76A-4711-B9EB-21F23493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3A084-7F13-42F7-9ABC-E19A4C253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99E26-0382-40A0-97EA-A23A9AF7D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DE031-811A-4A35-8F12-EC4E91CB2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BEF57-564D-4787-A2B8-E01E64FB6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BEAF7-0FAF-4AF0-B6B5-F829EAF57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7D46F-8215-4CE8-B0EA-94F50E743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247A7-B2D9-4D17-966C-EAE67D7A4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E930-7EEC-4AB8-B919-07DA5901C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70696-58B7-4D29-A056-1FC73CD42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74B52-82C7-42A7-AFFE-E9EC35418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203A8-6165-4BD8-B7CF-16986CD63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185AD-668D-41DF-92B1-0FA1F5B03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6CB93-A650-42BD-A189-712354F0C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50FA5-5E21-49D9-8678-52638BB4B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24EE0-DF5C-4516-8362-C7FA52B31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769A0-E218-4312-B30E-5BC690922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F1D84-C00D-4559-B305-034183F2C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FA1E-823F-4D1F-9A31-E4A8F0555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FAE4-BD93-4F4D-BE56-E867B1676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7EFF-84C3-4F84-A8F4-70D22AE3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C174-0F90-419D-A0FB-A44E6B025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2E35-07C1-40E4-8B43-AB311796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3/18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F53E7-18C4-4149-B622-FE653C069EB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3/18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09734-CC1D-4E3F-8134-9CDCD5271E7C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3/18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833AA-0BAA-41F3-80DC-0751B2691745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3/18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43DDF-1AFF-4FF1-A2E7-9401E6BE5F0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603360" y="719280"/>
            <a:ext cx="7864200" cy="20174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2819520"/>
            <a:ext cx="7854840" cy="26668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ceff"/>
                </a:solidFill>
                <a:latin typeface="Constantia"/>
              </a:rPr>
              <a:t>Week 2 Lab2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ceff"/>
                </a:solidFill>
                <a:latin typeface="Constantia"/>
              </a:rPr>
              <a:t>Practice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fafc"/>
                </a:solidFill>
                <a:latin typeface="Constantia"/>
              </a:rPr>
              <a:t>Dina A. Said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fafc"/>
                </a:solidFill>
                <a:latin typeface="Constantia"/>
              </a:rPr>
              <a:t>dasaid@ucalgary.ca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ercis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ify the permutation program to check first if the given number if greater than zero. You should print error message otherwis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the return value in case of error message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3/1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3/1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1447920" y="1371600"/>
            <a:ext cx="6629400" cy="3933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 perm(x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(x&lt;=0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t "Error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 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n in range (1,x+1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=result*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 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9350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 function that accepts four numbers and returns the maximum of the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3/1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380880" y="3124080"/>
            <a:ext cx="4572000" cy="301860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 myMax(x,y,z,w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x=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n in (y, z, w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(n&gt;max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x=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 m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6019920" y="3048120"/>
          <a:ext cx="2133360" cy="3657600"/>
        </p:xfrm>
        <a:graphic>
          <a:graphicData uri="http://schemas.openxmlformats.org/drawingml/2006/table">
            <a:tbl>
              <a:tblPr/>
              <a:tblGrid>
                <a:gridCol w="2133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ax=x=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=y=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 n&gt;max? ye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max =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=z=2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 n&gt;max? No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do noth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=w=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 n&gt;max? ye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max =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TextBox 8"/>
          <p:cNvSpPr/>
          <p:nvPr/>
        </p:nvSpPr>
        <p:spPr>
          <a:xfrm>
            <a:off x="5800680" y="2362320"/>
            <a:ext cx="196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Max(3,6,2,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=3 y=6 z=2 w=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ercise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 function that accepts 3 numbers and returns the minimum of the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your program wit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Min(9,5,2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Min(3,4,10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Min(2,-4,8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3/1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unctions: Parameter Passing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pass a parameter to a function, define it as a variable in the function declaration e.g. def square(length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run time, call the function with the value of this parameter e.g. square(6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 printNameID(name,ID)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t nam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t I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the command window writ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tNameID(“John”,122898)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3/1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unctions: return valu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r function may return a value using return command, e.g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6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sum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 that, you should return only one valu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a function returns a value, you can use it in assign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   F=mySum(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lnSpc>
                <a:spcPct val="100000"/>
              </a:lnSpc>
              <a:spcBef>
                <a:spcPts val="49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w, you have defined a variable F that will holds the value that the function mySum() return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3/1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3/1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1219320" y="1676520"/>
            <a:ext cx="4572000" cy="472644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mySum(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x in (1,2,3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=sum+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s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ommand windo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ySum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=mySum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int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ercis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7521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ify the previous function to return the summation of numbers in a range starting from x to y, where x and y are parameters passed to your func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your function with mySum(1,3)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ou answer should be 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range is required to be inclusive, your range should be (x,y+1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ever, if the range is required to be exclusive, your range should be (x+1,y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efault is inclusiv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3/1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3/1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1600200" y="1219320"/>
            <a:ext cx="6477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f mySum(x,y)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 no in </a:t>
            </a:r>
            <a:r>
              <a:rPr b="0" lang="en-US" sz="3600" spc="-1" strike="noStrike">
                <a:solidFill>
                  <a:srgbClr val="009dd9"/>
                </a:solidFill>
                <a:latin typeface="Arial"/>
              </a:rPr>
              <a:t>range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3600" spc="-1" strike="noStrike">
                <a:solidFill>
                  <a:srgbClr val="009dd9"/>
                </a:solidFill>
                <a:latin typeface="Arial"/>
              </a:rPr>
              <a:t>,y+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=sum+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turn s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6"/>
          <p:cNvSpPr/>
          <p:nvPr/>
        </p:nvSpPr>
        <p:spPr>
          <a:xfrm>
            <a:off x="1329840" y="4724280"/>
            <a:ext cx="614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you can’t have two variables with the same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 function returns the multiplication of numbers in range starting from x to 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your function wit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Mul(2,3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*3=6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Mul(2,6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*3*4*5*6=72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3/1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3/1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838080" y="1752480"/>
            <a:ext cx="6096240" cy="204444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myMul(x,y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f6fc6"/>
                </a:solidFill>
                <a:latin typeface="Arial"/>
              </a:rPr>
              <a:t>mul=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 in range (x,y+1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=mul*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m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6"/>
          <p:cNvSpPr/>
          <p:nvPr/>
        </p:nvSpPr>
        <p:spPr>
          <a:xfrm>
            <a:off x="990720" y="2209680"/>
            <a:ext cx="1523880" cy="533520"/>
          </a:xfrm>
          <a:prstGeom prst="ellipse">
            <a:avLst/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5" name="Straight Arrow Connector 8"/>
          <p:cNvCxnSpPr/>
          <p:nvPr/>
        </p:nvCxnSpPr>
        <p:spPr>
          <a:xfrm flipH="1">
            <a:off x="2437560" y="1370520"/>
            <a:ext cx="1753560" cy="11437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26" name="TextBox 9"/>
          <p:cNvSpPr/>
          <p:nvPr/>
        </p:nvSpPr>
        <p:spPr>
          <a:xfrm>
            <a:off x="4124520" y="99072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ercis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 function that returns the Permutations of a given number, where the permutation of x is calculated as 1*2*…*x. For example, the permutation of 6 is calculated as 1*2*3*4*5*6=720 and the permutation of 7 is calculated as 1*2*3*4*5*6*7=504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nt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nk about the range of your loop from 1 to the numb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multiplic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value should you initialize the permutation with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3/1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15:23:28Z</dcterms:created>
  <dc:creator>Dina</dc:creator>
  <dc:description/>
  <dc:language>en-US</dc:language>
  <cp:lastModifiedBy>Information Technologies</cp:lastModifiedBy>
  <dcterms:modified xsi:type="dcterms:W3CDTF">2009-03-18T19:42:33Z</dcterms:modified>
  <cp:revision>218</cp:revision>
  <dc:subject/>
  <dc:title>CPSC 203</dc:title>
</cp:coreProperties>
</file>